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C326F-0859-40C2-B724-66BCB70EB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3263D-5C13-4B27-B9AC-9A915E1AA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519E5-0A73-4183-806B-6D1126800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3988F-A991-4A9B-AF5F-9206AAA62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BE34C-88C5-4A85-B8E4-792630558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BF503-62A5-49F2-AE71-3B79EA789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8834C-5C60-4304-A187-1D7756229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207B3-8BD4-4AF7-AC4A-A018D063C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27755-32E9-4DDE-BC42-8C9B123CD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C2525-1DA3-44E3-A936-234698086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336D-E4CA-41A5-8C2A-0014AE3AF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2808B-ECD5-465B-9C4E-DFD171CDE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9EA9-8795-4F96-BD39-B36E1FA602C7}"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640"/>
            <a:ext cx="7772400" cy="288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Tectonic Plate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late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arth's crust is made up of seven principal tectonic plates and numerous other smaller plat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lates are sections of the crust that </a:t>
            </a:r>
            <a:r>
              <a:rPr b="1" lang="en-US" sz="3200" spc="-1" strike="noStrike">
                <a:solidFill>
                  <a:srgbClr val="000000"/>
                </a:solidFill>
                <a:latin typeface="Calibri"/>
              </a:rPr>
              <a:t>"float"</a:t>
            </a:r>
            <a:r>
              <a:rPr b="0" lang="en-US" sz="3200" spc="-1" strike="noStrike">
                <a:solidFill>
                  <a:srgbClr val="000000"/>
                </a:solidFill>
                <a:latin typeface="Calibri"/>
              </a:rPr>
              <a:t> on the mantle, which is made up of molten roc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the plate's meet, huge forces mean that they can form features such as volcanoes, fold mountains, deep-sea trenches and earthquak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late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tectonic plate. Oceanic crust is often only about 5km thick, but is very den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ental crust is considerably thicker, often being approximately 30km deep, but is less den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late Boundaries</a:t>
            </a:r>
            <a:endParaRPr b="0" lang="en-US" sz="4400" spc="-1" strike="noStrike">
              <a:solidFill>
                <a:srgbClr val="000000"/>
              </a:solidFill>
              <a:latin typeface="Calibri"/>
            </a:endParaRPr>
          </a:p>
        </p:txBody>
      </p:sp>
      <p:pic>
        <p:nvPicPr>
          <p:cNvPr id="47" name="Picture 2" descr="http://cgz.e2bn.net/e2bn/leas/c99/schools/cgz/accounts/staff/rchambers/GeoBytes%20GCSE%20Blog%20Resources/Images/Plate%20Tectonics/Plate%20Tectonics/Plate%20Boundaries.jpg"/>
          <p:cNvPicPr/>
          <p:nvPr/>
        </p:nvPicPr>
        <p:blipFill>
          <a:blip r:embed="rId1"/>
          <a:stretch/>
        </p:blipFill>
        <p:spPr>
          <a:xfrm>
            <a:off x="819000" y="1197000"/>
            <a:ext cx="7489800" cy="557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nvection Current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arth's Tectonic Plates all move very slowly on the mantle, meeting along the four main boundaries that can be found in the next s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lates move due to </a:t>
            </a:r>
            <a:r>
              <a:rPr b="1" lang="en-US" sz="3200" spc="-1" strike="noStrike">
                <a:solidFill>
                  <a:srgbClr val="000000"/>
                </a:solidFill>
                <a:latin typeface="Calibri"/>
              </a:rPr>
              <a:t>convection currents</a:t>
            </a:r>
            <a:r>
              <a:rPr b="0" lang="en-US" sz="3200" spc="-1" strike="noStrike">
                <a:solidFill>
                  <a:srgbClr val="000000"/>
                </a:solidFill>
                <a:latin typeface="Calibri"/>
              </a:rPr>
              <a:t> in the mant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 hot currents of molten rock that slowly move within the mantle and cause the plates above them to move, usually by as little as one or two centimetres each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4:11:22Z</dcterms:created>
  <dc:creator>Dell_02</dc:creator>
  <dc:description/>
  <dc:language>en-US</dc:language>
  <cp:lastModifiedBy>Dell_02</cp:lastModifiedBy>
  <dcterms:modified xsi:type="dcterms:W3CDTF">2011-01-26T04:19:24Z</dcterms:modified>
  <cp:revision>1</cp:revision>
  <dc:subject/>
  <dc:title>Tectonic Plates</dc:title>
</cp:coreProperties>
</file>